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FF8-290F-415A-AF35-B6FADDE3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866-1925-4360-866C-B100CC5A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325-6F4B-43B4-80C8-08845B75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15B-023E-41FC-9907-02C8ACFA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187-D3E9-4E82-8849-FB69510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741-C0E0-434F-9A83-859C3C2D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197-40C2-440B-94B6-759B5779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B13-CE7B-4DBA-9778-2548741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C23-DFCF-41A6-AE57-B93EF8EA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3F0-0654-4FE4-91AE-5A6F93A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882-F6C7-462F-9E65-9CE9079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A92-92B2-47F0-99D6-4117761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9AA-D1D8-463C-85D1-DF699860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39625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it,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, hiding, false, cover-u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rible obfuscation of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ul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10120" cy="3762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440" y="-21301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15:20Z</dcterms:created>
  <dc:creator>Communications Division</dc:creator>
  <dc:description/>
  <dc:language>en-US</dc:language>
  <cp:lastModifiedBy>Communications Division</cp:lastModifiedBy>
  <dcterms:modified xsi:type="dcterms:W3CDTF">2010-04-28T17:40:41Z</dcterms:modified>
  <cp:revision>5</cp:revision>
  <dc:subject/>
  <dc:title>Slide 1</dc:title>
</cp:coreProperties>
</file>