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DDE-5ED4-4C2D-8523-A205C4DB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776-F1C6-4E59-9874-94E991FF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3B8-A01F-4D6E-AD81-61F3FC65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B23-44EC-41B8-B0C9-849E15B4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0F1-E8A5-455A-BFD4-7E2AA63E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DB8-69B5-4909-8224-3D69D5B8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2F6-0D35-4D3D-B5EC-9E49E329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040-CB0E-485E-950D-53B8590E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E79-1AEB-4719-8E98-2311607E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E96-6388-4EB8-92C6-0EE71DB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AA5-42B8-45D0-975A-133B60B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773-A7B5-4ED5-BC42-0E7D79D5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F643-07FF-4B88-8A2B-D80A26EEA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396252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it, l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, hiding, false, cover-u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rible obfuscation of tr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ul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010120" cy="3762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440" y="-213012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15:20Z</dcterms:created>
  <dc:creator>Communications Division</dc:creator>
  <dc:description/>
  <dc:language>en-US</dc:language>
  <cp:lastModifiedBy>Communications Division</cp:lastModifiedBy>
  <dcterms:modified xsi:type="dcterms:W3CDTF">2010-04-28T17:40:41Z</dcterms:modified>
  <cp:revision>5</cp:revision>
  <dc:subject/>
  <dc:title>Slide 1</dc:title>
</cp:coreProperties>
</file>