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4345B-BBC1-4E69-8722-FEE93938C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AD142-2079-4E70-B968-219D57B0F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CACB9-FC09-42BF-9F13-011B4083B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2CD4A-9CC4-43FE-AFFD-D0A7371E2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D9F45-947E-42F5-B946-9A0D4D32A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DA0C2-8D12-4D1C-9346-6B830D1F0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E5E6F-F082-44C4-9AF2-C500B8E67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2666D-4764-4E26-9D1B-2114048E3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976BA-23CC-4C8B-BCAD-9297C230A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359EB-F7F7-4EB3-BAFB-528DF82D9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E5A49-1C34-43FF-8567-76E7C7C30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C56EB-3D93-4DF5-A937-F2D92C042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26449-5406-47D7-BF5C-998175121B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09480" y="3962520"/>
            <a:ext cx="78487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sk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eit, lie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ty, hiding, false, cover-up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horrible obfuscation of trut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uls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057400" y="228600"/>
            <a:ext cx="5010120" cy="376236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2"/>
          <p:cNvSpPr>
            <a:spLocks noGrp="1"/>
          </p:cNvSpPr>
          <p:nvPr>
            <p:ph type="title"/>
          </p:nvPr>
        </p:nvSpPr>
        <p:spPr>
          <a:xfrm>
            <a:off x="685440" y="-2130120"/>
            <a:ext cx="15228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8T17:15:20Z</dcterms:created>
  <dc:creator>Communications Division</dc:creator>
  <dc:description/>
  <dc:language>en-US</dc:language>
  <cp:lastModifiedBy>Communications Division</cp:lastModifiedBy>
  <dcterms:modified xsi:type="dcterms:W3CDTF">2010-04-28T17:40:41Z</dcterms:modified>
  <cp:revision>5</cp:revision>
  <dc:subject/>
  <dc:title>Slide 1</dc:title>
</cp:coreProperties>
</file>