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AA4-64D0-4774-9C83-3D60517E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204-6B02-4C09-8D3F-543CF1FB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B48-ABA9-4214-A644-4183B44D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44F-0AE2-476E-B676-CD01C060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157-6427-4AAB-B9A5-43F4D4CB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F4E-0006-42A5-8ADB-B8246D9A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730-8A36-4143-9FFD-6FAE80D7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B2C-E4B4-4CCB-9485-CF33A16C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BB4-AD7D-4B16-9F13-AF2A5368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2E2-2351-4CA6-B954-4E835484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B99-D650-45BE-911F-A881D94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0EA-4B69-41BD-9521-F0D00C45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A384-3ACD-4804-84FD-EF619588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396252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it, l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, hiding, false, cover-u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rible obfuscation of tr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ul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010120" cy="3762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440" y="-213012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15:20Z</dcterms:created>
  <dc:creator>Communications Division</dc:creator>
  <dc:description/>
  <dc:language>en-US</dc:language>
  <cp:lastModifiedBy>Communications Division</cp:lastModifiedBy>
  <dcterms:modified xsi:type="dcterms:W3CDTF">2010-04-28T17:40:41Z</dcterms:modified>
  <cp:revision>5</cp:revision>
  <dc:subject/>
  <dc:title>Slide 1</dc:title>
</cp:coreProperties>
</file>